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E323-0A3C-41B4-81D8-BA0F192FEC5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8A57-5D24-4566-B61B-9AF8804F68A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5920" y="179280"/>
            <a:ext cx="6114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85920" y="179280"/>
            <a:ext cx="6114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85920" y="179280"/>
            <a:ext cx="6114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572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8948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5920" y="179280"/>
            <a:ext cx="6114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48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5920" y="174600"/>
            <a:ext cx="611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572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48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428760" y="1071720"/>
            <a:ext cx="8286480" cy="51433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643040" y="2642760"/>
            <a:ext cx="5786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193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1" marL="311760" indent="-119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2" marL="479880" indent="-95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3" marL="671760" indent="-9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4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5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6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" name="Прямоугольник 13"/>
          <p:cNvSpPr/>
          <p:nvPr/>
        </p:nvSpPr>
        <p:spPr>
          <a:xfrm flipV="1">
            <a:off x="428760" y="856800"/>
            <a:ext cx="8715240" cy="214560"/>
          </a:xfrm>
          <a:prstGeom prst="rect">
            <a:avLst/>
          </a:prstGeom>
          <a:solidFill>
            <a:srgbClr val="0020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4"/>
          <p:cNvSpPr/>
          <p:nvPr/>
        </p:nvSpPr>
        <p:spPr>
          <a:xfrm flipV="1">
            <a:off x="0" y="641880"/>
            <a:ext cx="4572000" cy="214200"/>
          </a:xfrm>
          <a:prstGeom prst="rect">
            <a:avLst/>
          </a:prstGeom>
          <a:solidFill>
            <a:srgbClr val="7f7f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0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00240" cy="233280"/>
          </a:xfrm>
          <a:prstGeom prst="rect">
            <a:avLst/>
          </a:prstGeom>
          <a:ln w="0">
            <a:noFill/>
          </a:ln>
        </p:spPr>
      </p:pic>
      <p:sp>
        <p:nvSpPr>
          <p:cNvPr id="5" name="Прямоугольник 20"/>
          <p:cNvSpPr/>
          <p:nvPr/>
        </p:nvSpPr>
        <p:spPr>
          <a:xfrm>
            <a:off x="3500280" y="6286680"/>
            <a:ext cx="5643720" cy="214200"/>
          </a:xfrm>
          <a:prstGeom prst="rect">
            <a:avLst/>
          </a:prstGeom>
          <a:solidFill>
            <a:srgbClr val="0020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7299360" y="179280"/>
            <a:ext cx="14158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428760" y="785880"/>
            <a:ext cx="8286480" cy="5429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0" y="928800"/>
            <a:ext cx="8715240" cy="214200"/>
          </a:xfrm>
          <a:prstGeom prst="rect">
            <a:avLst/>
          </a:prstGeom>
          <a:solidFill>
            <a:srgbClr val="0020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00240" cy="23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7299360" y="179280"/>
            <a:ext cx="1415880" cy="500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9328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9696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328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8358120" y="64483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4BE7-005F-40A9-8709-BA891C479FFD}" type="slidenum">
              <a:rPr b="1" lang="ru-RU" sz="1600" spc="-1" strike="noStrike">
                <a:solidFill>
                  <a:srgbClr val="193281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0"/>
          <p:cNvSpPr/>
          <p:nvPr/>
        </p:nvSpPr>
        <p:spPr>
          <a:xfrm>
            <a:off x="3500280" y="6286680"/>
            <a:ext cx="5643720" cy="214200"/>
          </a:xfrm>
          <a:prstGeom prst="rect">
            <a:avLst/>
          </a:prstGeom>
          <a:solidFill>
            <a:srgbClr val="0020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428760" y="1071720"/>
            <a:ext cx="8286480" cy="51433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 flipV="1">
            <a:off x="428760" y="856800"/>
            <a:ext cx="8715240" cy="214560"/>
          </a:xfrm>
          <a:prstGeom prst="rect">
            <a:avLst/>
          </a:prstGeom>
          <a:solidFill>
            <a:srgbClr val="0020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 flipV="1">
            <a:off x="0" y="641880"/>
            <a:ext cx="4572000" cy="214200"/>
          </a:xfrm>
          <a:prstGeom prst="rect">
            <a:avLst/>
          </a:prstGeom>
          <a:solidFill>
            <a:srgbClr val="7f7f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0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00240" cy="23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7299360" y="179280"/>
            <a:ext cx="1415880" cy="5000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5"/>
          <p:cNvSpPr/>
          <p:nvPr/>
        </p:nvSpPr>
        <p:spPr>
          <a:xfrm>
            <a:off x="3500280" y="6286680"/>
            <a:ext cx="5643720" cy="214200"/>
          </a:xfrm>
          <a:prstGeom prst="rect">
            <a:avLst/>
          </a:prstGeom>
          <a:solidFill>
            <a:srgbClr val="0020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643040" y="2642760"/>
            <a:ext cx="5786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193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1" marL="311760" indent="-119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2" marL="479880" indent="-95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3" marL="671760" indent="-9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4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5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6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28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428760" y="1071720"/>
            <a:ext cx="8286480" cy="51433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 flipV="1">
            <a:off x="428760" y="856800"/>
            <a:ext cx="8715240" cy="214560"/>
          </a:xfrm>
          <a:prstGeom prst="rect">
            <a:avLst/>
          </a:prstGeom>
          <a:solidFill>
            <a:srgbClr val="0020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1"/>
          <p:cNvSpPr/>
          <p:nvPr/>
        </p:nvSpPr>
        <p:spPr>
          <a:xfrm flipV="1">
            <a:off x="0" y="641880"/>
            <a:ext cx="4572000" cy="214200"/>
          </a:xfrm>
          <a:prstGeom prst="rect">
            <a:avLst/>
          </a:prstGeom>
          <a:solidFill>
            <a:srgbClr val="7f7f7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0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00240" cy="233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3"/>
          <a:stretch/>
        </p:blipFill>
        <p:spPr>
          <a:xfrm>
            <a:off x="7299360" y="179280"/>
            <a:ext cx="1415880" cy="5000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5"/>
          <p:cNvSpPr/>
          <p:nvPr/>
        </p:nvSpPr>
        <p:spPr>
          <a:xfrm>
            <a:off x="3500280" y="6286680"/>
            <a:ext cx="5643720" cy="214200"/>
          </a:xfrm>
          <a:prstGeom prst="rect">
            <a:avLst/>
          </a:prstGeom>
          <a:solidFill>
            <a:srgbClr val="0020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9328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9696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328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71680" y="1571760"/>
            <a:ext cx="7992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93281"/>
                </a:solidFill>
                <a:latin typeface="Arial"/>
              </a:rPr>
              <a:t>ДОБРОЕ УТР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" descr="d181d0bbd0b0d0b9d0b41"/>
          <p:cNvPicPr/>
          <p:nvPr/>
        </p:nvPicPr>
        <p:blipFill>
          <a:blip r:embed="rId1"/>
          <a:stretch/>
        </p:blipFill>
        <p:spPr>
          <a:xfrm>
            <a:off x="500040" y="1428840"/>
            <a:ext cx="3000240" cy="40719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3643200" y="1285920"/>
            <a:ext cx="49611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кий человек увидел в лесу дровосека, с большим трудом пилившего дерево совершен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упой пил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еловек спросил е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  Уважаемый, почему бы вам не наточить свою пил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  У меня нет времени точить пилу — я должен пилить! — простонал дровосек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оловок 4"/>
          <p:cNvSpPr/>
          <p:nvPr/>
        </p:nvSpPr>
        <p:spPr>
          <a:xfrm>
            <a:off x="214200" y="142920"/>
            <a:ext cx="7715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твет на вопрос № 3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итча о дровосек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0358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КПЭ Абакшина А.Н. на 2010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125360"/>
          <a:ext cx="8207280" cy="5040360"/>
        </p:xfrm>
        <a:graphic>
          <a:graphicData uri="http://schemas.openxmlformats.org/drawingml/2006/table">
            <a:tbl>
              <a:tblPr/>
              <a:tblGrid>
                <a:gridCol w="3087720"/>
                <a:gridCol w="2681280"/>
                <a:gridCol w="2438280"/>
              </a:tblGrid>
              <a:tr h="424080">
                <a:tc>
                  <a:txBody>
                    <a:bodyPr lIns="27360" rIns="2736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а (Задач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360" rIns="2736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а расчета (оценки) Показателя / Проекта (Задач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360" rIns="2736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результа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елевое знач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368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Регламента договорной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истемы предупреждения и профилактики рисков по заключаемым договора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безопас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базового пакета внутренних документов (в т.ч. Регламента по налоговым проверк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логовой компетенции, создание системы предупреждения и профилактики налоговых рис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базового пакета документов (в т.ч. форму Плана ведения судебного процесс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емость судебной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ие практики эффективной деятельности корпорати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Стандартов успешного Корпоративного секретар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ядочение  работы корпоративного секретаря и совершенствование  корпоративного управления в це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ый проток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Стандарта оформления проток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лизация и внедрение передовых знаний о подготовке качественных проток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ие практики по работе с дебиторской задолж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 Стандарта правовой работы с дебиторской задолжен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емость дебиторской задолжен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ая собствен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-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Стандарта правовой работы с интеллектуальной собствен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компетенции, создание системы учета интеллектуальной собственности и прав на н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ие практики по правовому аудиту про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Стандарта правового аудита проек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лизация и внедрение передовых знаний по правовому аудиту проек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еренности вне журнала – вне закона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Регламента по работе с доверенност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емость представителей единоличного исполнительного орга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авовой и корпоративной эффекти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ортала для юристов и корпоративных секретар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офессионального сообщества юристов и корпоративных секретар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верди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зучи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я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блюда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400" y="107136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8480" indent="-348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3281"/>
                </a:solidFill>
                <a:latin typeface="Calibri"/>
              </a:rPr>
              <a:t>Базовый пакет «Налоговая безопасность» включает в себя</a:t>
            </a: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19328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ламент по налоговым проверк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ламент работы по получению письменных разъяснений Минф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жение о проведении сверки расчетов по налогам, сборам и взнос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жение о постановке на налоговый учет по месту нахождения обособленных подраздел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рекомендации по составлению налоговой учетной поли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рекомендации по реализации Обществом права на зачет (возврат) налоговой перепл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каз о визировании юристами налоговых док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иторинг налоговой правовой фун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каз о проведении корпоративного обучения «Налоговый юрист» и соответствующие обучающие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рекомендации по работе в Обществе с сомнительной и безнадежной задолженностью для целей налогооб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 эффективной налоговой правовой фун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447840" algn="r">
              <a:spcBef>
                <a:spcPts val="4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44784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дебный 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4920" y="105228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RU-COM</a:t>
            </a:r>
            <a:r>
              <a:rPr b="0" lang="ru-RU" sz="2400" spc="-1" strike="noStrike">
                <a:solidFill>
                  <a:srgbClr val="193281"/>
                </a:solidFill>
                <a:latin typeface="Calibri"/>
              </a:rPr>
              <a:t> разработана</a:t>
            </a: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193281"/>
                </a:solidFill>
                <a:latin typeface="Calibri"/>
              </a:rPr>
              <a:t> в Обществах утверждена Система организации эффективной судебной работы</a:t>
            </a:r>
            <a:r>
              <a:rPr b="0" lang="en-US" sz="2400" spc="-1" strike="noStrike">
                <a:solidFill>
                  <a:srgbClr val="193281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193281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лан ведения судебного процесс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рядок ведения архива документов судебного дела (бумажная и электронная папка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истема делегирования полномочий Генерального директора по подписанию процессуальных документо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иказ о мерах по предупреждению и профилактике судебных и административных разбирательст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егламент по  работе с запросами госоргано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егламент работы по получению письменных разъяснений государственных органов по применению законодательств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етодические рекомендации по подготовке процессуальных документо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етодические рекомендации по подготовке Обзоров судебной прак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PR-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опровождения судебных и административных разбирательст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рафик судебных заседани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ониторинг судебной работы (включая самооценку специалиста по судебной работе и итоговую оценку руководителя Юридической службы по итогам ведения дела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Ежемесячный Отчет Юридической службы перед Генеральным директором по судебной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еестр важных и прецедентных судебных дел Обществ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5 форм процессуальных документов для активного использования Инструментов эффективной судебной работ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тандарт эффективной судебной работ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67280" indent="-59112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840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 КПЭ Руководителя ЮС ДЗ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94920" y="112536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8840"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93281"/>
                </a:solidFill>
                <a:latin typeface="Calibri"/>
              </a:rPr>
              <a:t>1-й показатель: Наименование – </a:t>
            </a:r>
            <a:r>
              <a:rPr b="1" lang="ru-RU" sz="1600" spc="-1" strike="noStrike">
                <a:solidFill>
                  <a:srgbClr val="193281"/>
                </a:solidFill>
                <a:latin typeface="Calibri"/>
              </a:rPr>
              <a:t>Правовая работа 2.0. </a:t>
            </a:r>
            <a:r>
              <a:rPr b="0" lang="ru-RU" sz="1600" spc="-1" strike="noStrike">
                <a:solidFill>
                  <a:srgbClr val="193281"/>
                </a:solidFill>
                <a:latin typeface="Calibri"/>
              </a:rPr>
              <a:t>Методика оценки – Выполнение Плана приоритетных задач по совершенствованию правовой работы и внедрению Стандартов эффективной правовой работы в Обществе на 2010 год. Ожидаемый результат – Создание системы предупреждения и профилактики правовых рисков Общества </a:t>
            </a:r>
            <a:endParaRPr b="0" lang="en-US" sz="1600" spc="-1" strike="noStrike">
              <a:solidFill>
                <a:srgbClr val="193281"/>
              </a:solidFill>
              <a:latin typeface="Calibri"/>
            </a:endParaRPr>
          </a:p>
          <a:p>
            <a:pPr marL="168840"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3281"/>
                </a:solidFill>
                <a:latin typeface="Calibri"/>
              </a:rPr>
              <a:t>http://blog.abakshin.com/archives/2652</a:t>
            </a:r>
            <a:endParaRPr b="0" lang="en-US" sz="1600" spc="-1" strike="noStrike">
              <a:solidFill>
                <a:srgbClr val="193281"/>
              </a:solidFill>
              <a:latin typeface="Calibri"/>
            </a:endParaRPr>
          </a:p>
          <a:p>
            <a:pPr marL="168840"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93281"/>
                </a:solidFill>
                <a:latin typeface="Calibri"/>
              </a:rPr>
              <a:t>2-й показатель: Наименование – </a:t>
            </a:r>
            <a:r>
              <a:rPr b="1" lang="ru-RU" sz="1600" spc="-1" strike="noStrike">
                <a:solidFill>
                  <a:srgbClr val="193281"/>
                </a:solidFill>
                <a:latin typeface="Calibri"/>
              </a:rPr>
              <a:t>Корпоративный секретарь </a:t>
            </a:r>
            <a:r>
              <a:rPr b="1" lang="en-US" sz="1600" spc="-1" strike="noStrike">
                <a:solidFill>
                  <a:srgbClr val="193281"/>
                </a:solidFill>
                <a:latin typeface="Calibri"/>
              </a:rPr>
              <a:t>PRO</a:t>
            </a:r>
            <a:r>
              <a:rPr b="0" lang="ru-RU" sz="1600" spc="-1" strike="noStrike">
                <a:solidFill>
                  <a:srgbClr val="193281"/>
                </a:solidFill>
                <a:latin typeface="Calibri"/>
              </a:rPr>
              <a:t>. Методика оценки – Выполнение Приоритетных задач по совершенствованию корпоративной работы в Обществе на 2010 год. Ожидаемый результат – Повышение роли корпоративного управления в Обществе</a:t>
            </a:r>
            <a:endParaRPr b="0" lang="en-US" sz="1600" spc="-1" strike="noStrike">
              <a:solidFill>
                <a:srgbClr val="193281"/>
              </a:solidFill>
              <a:latin typeface="Calibri"/>
            </a:endParaRPr>
          </a:p>
          <a:p>
            <a:pPr marL="168840"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93281"/>
                </a:solidFill>
                <a:latin typeface="Calibri"/>
              </a:rPr>
              <a:t>3-й показатель: Наименование - </a:t>
            </a:r>
            <a:r>
              <a:rPr b="1" lang="ru-RU" sz="1600" spc="-1" strike="noStrike">
                <a:solidFill>
                  <a:srgbClr val="193281"/>
                </a:solidFill>
                <a:latin typeface="Calibri"/>
              </a:rPr>
              <a:t>Формы договоров</a:t>
            </a:r>
            <a:r>
              <a:rPr b="0" lang="ru-RU" sz="1600" spc="-1" strike="noStrike">
                <a:solidFill>
                  <a:srgbClr val="193281"/>
                </a:solidFill>
                <a:latin typeface="Calibri"/>
              </a:rPr>
              <a:t>. Методика оценки – Разработка и утверждение приказом Генерального директора качественного План по разработке новых форм договоров и совершенствованию действующих форм договоров на 2011 год (с помесячной разбивкой). Ожидаемый результат – Усиление договорной работы в Обществе на плановой и системной основе</a:t>
            </a:r>
            <a:endParaRPr b="0" lang="en-US" sz="1600" spc="-1" strike="noStrike">
              <a:solidFill>
                <a:srgbClr val="193281"/>
              </a:solidFill>
              <a:latin typeface="Calibri"/>
            </a:endParaRPr>
          </a:p>
          <a:p>
            <a:pPr marL="168840"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93281"/>
                </a:solidFill>
                <a:latin typeface="Calibri"/>
              </a:rPr>
              <a:t>4-й показатель: Наименование – </a:t>
            </a:r>
            <a:r>
              <a:rPr b="1" lang="ru-RU" sz="1600" spc="-1" strike="noStrike">
                <a:solidFill>
                  <a:srgbClr val="193281"/>
                </a:solidFill>
                <a:latin typeface="Calibri"/>
              </a:rPr>
              <a:t>ФАС</a:t>
            </a:r>
            <a:r>
              <a:rPr b="0" lang="ru-RU" sz="1600" spc="-1" strike="noStrike">
                <a:solidFill>
                  <a:srgbClr val="193281"/>
                </a:solidFill>
                <a:latin typeface="Calibri"/>
              </a:rPr>
              <a:t>. Методика оценки – Разработка и утверждение системного регламентирующего документа (документов), направленного на предупреждение и профилактику антимонопольных разбирательств. Ожидаемый результат - Создание специальной системы предупреждения и профилактики антимонопольных разбирательств</a:t>
            </a:r>
            <a:endParaRPr b="0" lang="en-US" sz="1600" spc="-1" strike="noStrike">
              <a:solidFill>
                <a:srgbClr val="193281"/>
              </a:solidFill>
              <a:latin typeface="Calibri"/>
            </a:endParaRPr>
          </a:p>
          <a:p>
            <a:pPr marL="168840" algn="just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lvl="2" marL="1339200" indent="-57888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прос 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10920" y="1268280"/>
            <a:ext cx="79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93281"/>
                </a:solidFill>
                <a:latin typeface="Arial"/>
              </a:rPr>
              <a:t>Является ли традиционный КПЭ «Судебный успех» показателем</a:t>
            </a:r>
            <a:r>
              <a:rPr b="0" lang="en-US" sz="3400" spc="-1" strike="noStrike">
                <a:solidFill>
                  <a:srgbClr val="193281"/>
                </a:solidFill>
                <a:latin typeface="Arial"/>
              </a:rPr>
              <a:t>,</a:t>
            </a:r>
            <a:r>
              <a:rPr b="0" lang="ru-RU" sz="3400" spc="-1" strike="noStrike">
                <a:solidFill>
                  <a:srgbClr val="193281"/>
                </a:solidFill>
                <a:latin typeface="Arial"/>
              </a:rPr>
              <a:t> увеличивающим стоимость компании</a:t>
            </a:r>
            <a:r>
              <a:rPr b="0" lang="en-US" sz="3400" spc="-1" strike="noStrike">
                <a:solidFill>
                  <a:srgbClr val="193281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7286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твет на вопрос № 4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итча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о викинга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2916360" y="1341360"/>
            <a:ext cx="5715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морю плыло судно викин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доль одного борта сидели мускулистые, могучие гребцы, вдоль другого — худые и голод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дин из предводителей сказал друго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нтересно, почему мы все время движемся по кругу»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Картинка 6 из 9615"/>
          <p:cNvPicPr/>
          <p:nvPr/>
        </p:nvPicPr>
        <p:blipFill>
          <a:blip r:embed="rId1"/>
          <a:stretch/>
        </p:blipFill>
        <p:spPr>
          <a:xfrm>
            <a:off x="500040" y="2071800"/>
            <a:ext cx="2357640" cy="27144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прос №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5528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3281"/>
                </a:solidFill>
                <a:latin typeface="Arial"/>
              </a:rPr>
              <a:t>Кто в юридической службе компании должен получать годовые бонусы</a:t>
            </a:r>
            <a:r>
              <a:rPr b="0" lang="en-US" sz="3600" spc="-1" strike="noStrike">
                <a:solidFill>
                  <a:srgbClr val="193281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вет на Вопрос №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920" y="1484280"/>
            <a:ext cx="7777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3281"/>
                </a:solidFill>
                <a:latin typeface="Arial"/>
              </a:rPr>
              <a:t>Годовой бонус – Руководитель юридической службы (в т.ч. в ДЗО)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3281"/>
                </a:solidFill>
                <a:latin typeface="Arial"/>
              </a:rPr>
              <a:t>13 заработная плата – специалисты юридической службы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прос 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5528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3281"/>
                </a:solidFill>
                <a:latin typeface="Arial"/>
              </a:rPr>
              <a:t>Каковы оптимальные</a:t>
            </a:r>
            <a:r>
              <a:rPr b="0" lang="en-US" sz="3200" spc="-1" strike="noStrike">
                <a:solidFill>
                  <a:srgbClr val="19328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93281"/>
                </a:solidFill>
                <a:latin typeface="Arial"/>
              </a:rPr>
              <a:t>размеры годовых бонусов руководителей юридических служб отечественных компаний</a:t>
            </a:r>
            <a:r>
              <a:rPr b="0" lang="en-US" sz="3200" spc="-1" strike="noStrike">
                <a:solidFill>
                  <a:srgbClr val="193281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19328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Группа 33"/>
          <p:cNvGrpSpPr/>
          <p:nvPr/>
        </p:nvGrpSpPr>
        <p:grpSpPr>
          <a:xfrm>
            <a:off x="3143160" y="1500120"/>
            <a:ext cx="5100840" cy="3240000"/>
            <a:chOff x="3143160" y="1500120"/>
            <a:chExt cx="5100840" cy="3240000"/>
          </a:xfrm>
        </p:grpSpPr>
        <p:pic>
          <p:nvPicPr>
            <p:cNvPr id="182" name="Диаграмма 26" descr=""/>
            <p:cNvPicPr/>
            <p:nvPr/>
          </p:nvPicPr>
          <p:blipFill>
            <a:blip r:embed="rId1"/>
            <a:stretch/>
          </p:blipFill>
          <p:spPr>
            <a:xfrm>
              <a:off x="3143160" y="1500120"/>
              <a:ext cx="5100840" cy="32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" descr=""/>
            <p:cNvPicPr/>
            <p:nvPr/>
          </p:nvPicPr>
          <p:blipFill>
            <a:blip r:embed="rId2"/>
            <a:stretch/>
          </p:blipFill>
          <p:spPr>
            <a:xfrm>
              <a:off x="5279040" y="2698920"/>
              <a:ext cx="828360" cy="86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468360" y="0"/>
            <a:ext cx="6120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много о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-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Группа 26"/>
          <p:cNvGrpSpPr/>
          <p:nvPr/>
        </p:nvGrpSpPr>
        <p:grpSpPr>
          <a:xfrm>
            <a:off x="468360" y="1125360"/>
            <a:ext cx="1979640" cy="5040360"/>
            <a:chOff x="468360" y="1125360"/>
            <a:chExt cx="1979640" cy="5040360"/>
          </a:xfrm>
        </p:grpSpPr>
        <p:grpSp>
          <p:nvGrpSpPr>
            <p:cNvPr id="186" name="Группа 17"/>
            <p:cNvGrpSpPr/>
            <p:nvPr/>
          </p:nvGrpSpPr>
          <p:grpSpPr>
            <a:xfrm>
              <a:off x="468360" y="1125360"/>
              <a:ext cx="1979640" cy="1688760"/>
              <a:chOff x="468360" y="1125360"/>
              <a:chExt cx="1979640" cy="1688760"/>
            </a:xfrm>
          </p:grpSpPr>
          <p:pic>
            <p:nvPicPr>
              <p:cNvPr id="187" name="Picture 23" descr="http://www.mostro.ru/files/2079/10-max.jpg"/>
              <p:cNvPicPr/>
              <p:nvPr/>
            </p:nvPicPr>
            <p:blipFill>
              <a:blip r:embed="rId3"/>
              <a:stretch/>
            </p:blipFill>
            <p:spPr>
              <a:xfrm>
                <a:off x="468720" y="2055240"/>
                <a:ext cx="856800" cy="75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Picture 21" descr="http://www.mostro.ru/files/189/400.jpg"/>
              <p:cNvPicPr/>
              <p:nvPr/>
            </p:nvPicPr>
            <p:blipFill>
              <a:blip r:embed="rId4"/>
              <a:stretch/>
            </p:blipFill>
            <p:spPr>
              <a:xfrm>
                <a:off x="468360" y="1125360"/>
                <a:ext cx="927720" cy="93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Picture 17" descr="http://www.mostro.ru/files/2078/9-max.jpg"/>
              <p:cNvPicPr/>
              <p:nvPr/>
            </p:nvPicPr>
            <p:blipFill>
              <a:blip r:embed="rId5"/>
              <a:srcRect l="0" t="1059" r="0" b="0"/>
              <a:stretch/>
            </p:blipFill>
            <p:spPr>
              <a:xfrm>
                <a:off x="1325160" y="1825200"/>
                <a:ext cx="112248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Picture 19" descr="http://www.mostro.ru/files/2071/2-max.jpg"/>
              <p:cNvPicPr/>
              <p:nvPr/>
            </p:nvPicPr>
            <p:blipFill>
              <a:blip r:embed="rId6"/>
              <a:stretch/>
            </p:blipFill>
            <p:spPr>
              <a:xfrm>
                <a:off x="1325520" y="1125360"/>
                <a:ext cx="1122480" cy="72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1" name="Группа 13"/>
            <p:cNvGrpSpPr/>
            <p:nvPr/>
          </p:nvGrpSpPr>
          <p:grpSpPr>
            <a:xfrm>
              <a:off x="468360" y="2805120"/>
              <a:ext cx="1979640" cy="3360600"/>
              <a:chOff x="468360" y="2805120"/>
              <a:chExt cx="1979640" cy="3360600"/>
            </a:xfrm>
          </p:grpSpPr>
          <p:pic>
            <p:nvPicPr>
              <p:cNvPr id="192" name="Picture 4" descr=""/>
              <p:cNvPicPr/>
              <p:nvPr/>
            </p:nvPicPr>
            <p:blipFill>
              <a:blip r:embed="rId7"/>
              <a:srcRect l="0" t="1699" r="0" b="0"/>
              <a:stretch/>
            </p:blipFill>
            <p:spPr>
              <a:xfrm>
                <a:off x="468360" y="3692520"/>
                <a:ext cx="1979280" cy="155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Picture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468360" y="5229360"/>
                <a:ext cx="1979640" cy="93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360" y="2805120"/>
                <a:ext cx="1979640" cy="887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5" name="Прямоугольник 21"/>
          <p:cNvSpPr/>
          <p:nvPr/>
        </p:nvSpPr>
        <p:spPr>
          <a:xfrm>
            <a:off x="2500200" y="5072040"/>
            <a:ext cx="614376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386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864"/>
                </a:solidFill>
                <a:latin typeface="Calibri"/>
              </a:rPr>
              <a:t>Выручка </a:t>
            </a:r>
            <a:r>
              <a:rPr b="1" lang="en-US" sz="1700" spc="-1" strike="noStrike">
                <a:solidFill>
                  <a:srgbClr val="003864"/>
                </a:solidFill>
                <a:latin typeface="Calibri"/>
              </a:rPr>
              <a:t>RU</a:t>
            </a:r>
            <a:r>
              <a:rPr b="1" lang="ru-RU" sz="1700" spc="-1" strike="noStrike">
                <a:solidFill>
                  <a:srgbClr val="003864"/>
                </a:solidFill>
                <a:latin typeface="Calibri"/>
              </a:rPr>
              <a:t>-</a:t>
            </a:r>
            <a:r>
              <a:rPr b="1" lang="en-US" sz="1700" spc="-1" strike="noStrike">
                <a:solidFill>
                  <a:srgbClr val="003864"/>
                </a:solidFill>
                <a:latin typeface="Calibri"/>
              </a:rPr>
              <a:t>COM</a:t>
            </a:r>
            <a:r>
              <a:rPr b="1" lang="ru-RU" sz="1700" spc="-1" strike="noStrike">
                <a:solidFill>
                  <a:srgbClr val="003864"/>
                </a:solidFill>
                <a:latin typeface="Calibri"/>
              </a:rPr>
              <a:t> - более 8 млрд. </a:t>
            </a:r>
            <a:r>
              <a:rPr b="1" lang="en-US" sz="1700" spc="-1" strike="noStrike">
                <a:solidFill>
                  <a:srgbClr val="003864"/>
                </a:solidFill>
                <a:latin typeface="Calibri"/>
              </a:rPr>
              <a:t>$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3b6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b64"/>
                </a:solidFill>
                <a:latin typeface="Calibri"/>
              </a:rPr>
              <a:t>На предприятиях</a:t>
            </a:r>
            <a:r>
              <a:rPr b="1" lang="en-US" sz="1700" spc="-1" strike="noStrike">
                <a:solidFill>
                  <a:srgbClr val="003b64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3b64"/>
                </a:solidFill>
                <a:latin typeface="Calibri"/>
              </a:rPr>
              <a:t>RU-COM</a:t>
            </a:r>
            <a:r>
              <a:rPr b="1" lang="en-US" sz="1700" spc="-1" strike="noStrike">
                <a:solidFill>
                  <a:srgbClr val="003b64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3b64"/>
                </a:solidFill>
                <a:latin typeface="Calibri"/>
              </a:rPr>
              <a:t>работает </a:t>
            </a:r>
            <a:r>
              <a:rPr b="1" lang="en-US" sz="1700" spc="-1" strike="noStrike">
                <a:solidFill>
                  <a:srgbClr val="003b64"/>
                </a:solidFill>
                <a:latin typeface="Calibri"/>
              </a:rPr>
              <a:t>–</a:t>
            </a:r>
            <a:r>
              <a:rPr b="1" lang="ru-RU" sz="1700" spc="-1" strike="noStrike">
                <a:solidFill>
                  <a:srgbClr val="003b64"/>
                </a:solidFill>
                <a:latin typeface="Calibri"/>
              </a:rPr>
              <a:t> более 60 тыс. челове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3b6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b64"/>
                </a:solidFill>
                <a:latin typeface="Calibri"/>
              </a:rPr>
              <a:t>RU-COM - </a:t>
            </a:r>
            <a:r>
              <a:rPr b="1" lang="ru-RU" sz="1700" spc="-1" strike="noStrike">
                <a:solidFill>
                  <a:srgbClr val="003b64"/>
                </a:solidFill>
                <a:latin typeface="Calibri"/>
              </a:rPr>
              <a:t>корпоративный член ОКЮ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1"/>
          <p:cNvSpPr/>
          <p:nvPr/>
        </p:nvSpPr>
        <p:spPr>
          <a:xfrm>
            <a:off x="7072200" y="2000160"/>
            <a:ext cx="1798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Энерге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3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6200640" y="4419720"/>
            <a:ext cx="18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Энергетическ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 промышл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строительство 2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2422440" y="2705040"/>
            <a:ext cx="180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стостро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 дорожное строитель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4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1"/>
          <p:cNvSpPr/>
          <p:nvPr/>
        </p:nvSpPr>
        <p:spPr>
          <a:xfrm>
            <a:off x="5357880" y="1357200"/>
            <a:ext cx="200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Сельское хозяйство 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1"/>
          <p:cNvSpPr/>
          <p:nvPr/>
        </p:nvSpPr>
        <p:spPr>
          <a:xfrm>
            <a:off x="3668760" y="1436760"/>
            <a:ext cx="180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Угледобыча 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1"/>
          <p:cNvSpPr/>
          <p:nvPr/>
        </p:nvSpPr>
        <p:spPr>
          <a:xfrm>
            <a:off x="3578400" y="4529160"/>
            <a:ext cx="1800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Энергетическ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ашиностроение 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30" descr="Логотип Е4 рус.jpg"/>
          <p:cNvPicPr/>
          <p:nvPr/>
        </p:nvPicPr>
        <p:blipFill>
          <a:blip r:embed="rId10"/>
          <a:stretch/>
        </p:blipFill>
        <p:spPr>
          <a:xfrm>
            <a:off x="5600880" y="4662360"/>
            <a:ext cx="647640" cy="4032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2" descr="ELSIB.JPG"/>
          <p:cNvPicPr/>
          <p:nvPr/>
        </p:nvPicPr>
        <p:blipFill>
          <a:blip r:embed="rId11"/>
          <a:stretch/>
        </p:blipFill>
        <p:spPr>
          <a:xfrm>
            <a:off x="3571920" y="4397400"/>
            <a:ext cx="647640" cy="3650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33" descr="Kopitanya_holding_logo.jpg"/>
          <p:cNvPicPr/>
          <p:nvPr/>
        </p:nvPicPr>
        <p:blipFill>
          <a:blip r:embed="rId12"/>
          <a:stretch/>
        </p:blipFill>
        <p:spPr>
          <a:xfrm>
            <a:off x="6929280" y="1285920"/>
            <a:ext cx="720720" cy="4446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35" descr="Разрез Сереульский.jpg"/>
          <p:cNvPicPr/>
          <p:nvPr/>
        </p:nvPicPr>
        <p:blipFill>
          <a:blip r:embed="rId13"/>
          <a:srcRect l="16251" t="17392" r="16251" b="22843"/>
          <a:stretch/>
        </p:blipFill>
        <p:spPr>
          <a:xfrm>
            <a:off x="3746520" y="1670040"/>
            <a:ext cx="720720" cy="439920"/>
          </a:xfrm>
          <a:prstGeom prst="rect">
            <a:avLst/>
          </a:prstGeom>
          <a:ln w="0">
            <a:noFill/>
          </a:ln>
        </p:spPr>
      </p:pic>
      <p:grpSp>
        <p:nvGrpSpPr>
          <p:cNvPr id="206" name="Группа 45"/>
          <p:cNvGrpSpPr/>
          <p:nvPr/>
        </p:nvGrpSpPr>
        <p:grpSpPr>
          <a:xfrm>
            <a:off x="7358040" y="2428920"/>
            <a:ext cx="1079640" cy="1900080"/>
            <a:chOff x="7358040" y="2428920"/>
            <a:chExt cx="1079640" cy="1900080"/>
          </a:xfrm>
        </p:grpSpPr>
        <p:pic>
          <p:nvPicPr>
            <p:cNvPr id="207" name="Рисунок 34" descr="флаг.jpg"/>
            <p:cNvPicPr/>
            <p:nvPr/>
          </p:nvPicPr>
          <p:blipFill>
            <a:blip r:embed="rId14"/>
            <a:srcRect l="21792" t="55656" r="53023" b="30993"/>
            <a:stretch/>
          </p:blipFill>
          <p:spPr>
            <a:xfrm>
              <a:off x="7358040" y="3100680"/>
              <a:ext cx="71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Рисунок 43" descr="Приложение 2.Логотип Бийскэнергосбыт.jpg"/>
            <p:cNvPicPr/>
            <p:nvPr/>
          </p:nvPicPr>
          <p:blipFill>
            <a:blip r:embed="rId15"/>
            <a:srcRect l="0" t="0" r="53789" b="0"/>
            <a:stretch/>
          </p:blipFill>
          <p:spPr>
            <a:xfrm>
              <a:off x="7358040" y="3670200"/>
              <a:ext cx="107964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Рисунок 28" descr="логотипЗАО РЭС.jpg"/>
            <p:cNvPicPr/>
            <p:nvPr/>
          </p:nvPicPr>
          <p:blipFill>
            <a:blip r:embed="rId16"/>
            <a:srcRect l="18528" t="4607" r="18628" b="6059"/>
            <a:stretch/>
          </p:blipFill>
          <p:spPr>
            <a:xfrm>
              <a:off x="7358040" y="2428920"/>
              <a:ext cx="451800" cy="6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Рисунок 34" descr="LogoByskInergo copy.jpg"/>
            <p:cNvPicPr/>
            <p:nvPr/>
          </p:nvPicPr>
          <p:blipFill>
            <a:blip r:embed="rId17"/>
            <a:stretch/>
          </p:blipFill>
          <p:spPr>
            <a:xfrm>
              <a:off x="7358040" y="3936600"/>
              <a:ext cx="900000" cy="39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Группа 44"/>
          <p:cNvGrpSpPr/>
          <p:nvPr/>
        </p:nvGrpSpPr>
        <p:grpSpPr>
          <a:xfrm>
            <a:off x="2728800" y="3313080"/>
            <a:ext cx="1082880" cy="696960"/>
            <a:chOff x="2728800" y="3313080"/>
            <a:chExt cx="1082880" cy="696960"/>
          </a:xfrm>
        </p:grpSpPr>
        <p:pic>
          <p:nvPicPr>
            <p:cNvPr id="212" name="Рисунок 31" descr="MOSTRO (синий).jpg"/>
            <p:cNvPicPr/>
            <p:nvPr/>
          </p:nvPicPr>
          <p:blipFill>
            <a:blip r:embed="rId18"/>
            <a:stretch/>
          </p:blipFill>
          <p:spPr>
            <a:xfrm>
              <a:off x="3352680" y="3313080"/>
              <a:ext cx="4590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Рисунок 42" descr="Дальмостострой.gif"/>
            <p:cNvPicPr/>
            <p:nvPr/>
          </p:nvPicPr>
          <p:blipFill>
            <a:blip r:embed="rId19"/>
            <a:srcRect l="5062" t="16485" r="7143" b="41393"/>
            <a:stretch/>
          </p:blipFill>
          <p:spPr>
            <a:xfrm>
              <a:off x="2728800" y="3882240"/>
              <a:ext cx="1080720" cy="12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TextBox 34"/>
          <p:cNvSpPr/>
          <p:nvPr/>
        </p:nvSpPr>
        <p:spPr>
          <a:xfrm>
            <a:off x="8388360" y="65246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35"/>
          <p:cNvSpPr/>
          <p:nvPr/>
        </p:nvSpPr>
        <p:spPr>
          <a:xfrm>
            <a:off x="6741360" y="5877000"/>
            <a:ext cx="204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rucom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вет на Вопрос №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55280" y="119700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93281"/>
                </a:solidFill>
                <a:latin typeface="Arial"/>
              </a:rPr>
              <a:t>12 окладов</a:t>
            </a:r>
            <a:endParaRPr b="0" lang="en-US" sz="96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прос №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4000" y="1268280"/>
            <a:ext cx="7848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3281"/>
                </a:solidFill>
                <a:latin typeface="Arial"/>
              </a:rPr>
              <a:t>Какова роль ОКЮР</a:t>
            </a:r>
            <a:r>
              <a:rPr b="0" lang="en-US" sz="2800" spc="-1" strike="noStrike">
                <a:solidFill>
                  <a:srgbClr val="19328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93281"/>
                </a:solidFill>
                <a:latin typeface="Arial"/>
              </a:rPr>
              <a:t>в процессе формирования годовых КПЭ и бонусных программ корпоративных юристов российских компаний</a:t>
            </a:r>
            <a:r>
              <a:rPr b="0" lang="en-US" sz="2800" spc="-1" strike="noStrike">
                <a:solidFill>
                  <a:srgbClr val="193281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вет на Вопрос №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9280" y="1052280"/>
            <a:ext cx="82090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Интернет-Форум ОКЮР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marL="478080" indent="-478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Ежегодный Мозговой штурм  в ноябре на Форуме на тему «Задачи по совершенствованию правовой и корпоративной работы  в российских компаниях на 2011 (20__) год»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marL="478080" indent="-478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Определение рейтинга Задач (ТОП-10) посредством голосования членов ОКЮР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marL="478080" indent="-478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Тематические семинары ОКЮР</a:t>
            </a:r>
            <a:r>
              <a:rPr b="0" lang="en-US" sz="2000" spc="-1" strike="noStrike">
                <a:solidFill>
                  <a:srgbClr val="19328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по Задачам ТОП10 (в течение нового года)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marL="478080" indent="-478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Отчетная конференция ОКЮР об итогах выполнения Задач ТОП-10 (ноябрь-декабрь)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marL="478080" indent="-478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Протоколы конференций-семинаров ОКЮР (Отметили-Решили</a:t>
            </a:r>
            <a:r>
              <a:rPr b="0" lang="en-US" sz="2000" spc="-1" strike="noStrike">
                <a:solidFill>
                  <a:srgbClr val="193281"/>
                </a:solidFill>
                <a:latin typeface="Arial"/>
              </a:rPr>
              <a:t>),</a:t>
            </a: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 Мониторинг исполнения решений ОКЮР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marL="478080" indent="-478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Стандарты качества работы корпоративного юриста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marL="478080" indent="-478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3281"/>
                </a:solidFill>
                <a:latin typeface="Arial"/>
              </a:rPr>
              <a:t>Стандарт или Методические рекомендации ОКЮР по формированию КПЭ юридической службы компании</a:t>
            </a: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4" marL="2019600" indent="-42516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19600" indent="-42516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прос №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11280" y="1268280"/>
            <a:ext cx="7921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3281"/>
                </a:solidFill>
                <a:latin typeface="Arial"/>
              </a:rPr>
              <a:t>Каковы могут быть КПЭ юриста компании в России на 2011 год</a:t>
            </a:r>
            <a:r>
              <a:rPr b="0" lang="en-US" sz="3600" spc="-1" strike="noStrike">
                <a:solidFill>
                  <a:srgbClr val="193281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вет на Вопрос 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9280" y="1052280"/>
            <a:ext cx="82090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Разработать и выполнить</a:t>
            </a:r>
            <a:r>
              <a:rPr b="0" lang="en-US" sz="1800" spc="-1" strike="noStrike">
                <a:solidFill>
                  <a:srgbClr val="19328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годовой План разработки форм договоров и совершенствования действующих форм договоров компании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Оптимизировать работу юриста посредством активного использования </a:t>
            </a:r>
            <a:r>
              <a:rPr b="0" lang="en-US" sz="1800" spc="-1" strike="noStrike">
                <a:solidFill>
                  <a:srgbClr val="193281"/>
                </a:solidFill>
                <a:latin typeface="Arial"/>
              </a:rPr>
              <a:t>Excel </a:t>
            </a: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и функции «Формы» </a:t>
            </a:r>
            <a:r>
              <a:rPr b="0" lang="en-US" sz="1800" spc="-1" strike="noStrike">
                <a:solidFill>
                  <a:srgbClr val="193281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Обеспечить управляемость правовой работы посредством использования диаграмм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Внедрить в Компании технологии подготовки эффективных документов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Внедрить в Компании технологии подготовки эффективных презентаций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Внедрить в Компании технологии эффективных совещаний (Мозговых штурмов)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Внедрить в Компании техники управления знаниями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Внедрить в Компании технологию тайм-менеджмента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Внедрить в Компании технологию майнд-менеджмента</a:t>
            </a:r>
            <a:endParaRPr b="0" lang="en-US" sz="18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3281"/>
                </a:solidFill>
                <a:latin typeface="Arial"/>
              </a:rPr>
              <a:t>Внедрить в Компании </a:t>
            </a:r>
            <a:r>
              <a:rPr b="0" lang="ru-RU" sz="1900" spc="-1" strike="noStrike">
                <a:solidFill>
                  <a:srgbClr val="193281"/>
                </a:solidFill>
                <a:latin typeface="Arial"/>
              </a:rPr>
              <a:t>техники креативности (</a:t>
            </a:r>
            <a:r>
              <a:rPr b="0" lang="en-US" sz="1900" spc="-1" strike="noStrike">
                <a:solidFill>
                  <a:srgbClr val="193281"/>
                </a:solidFill>
                <a:latin typeface="Arial"/>
              </a:rPr>
              <a:t>CoRT)</a:t>
            </a:r>
            <a:endParaRPr b="0" lang="en-US" sz="1900" spc="-1" strike="noStrike">
              <a:solidFill>
                <a:srgbClr val="193281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3281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84760" indent="-438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5920" y="1792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Arial"/>
              </a:rPr>
              <a:t>Рад с Вами познакомиться!</a:t>
            </a:r>
            <a:endParaRPr b="1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8400" y="1213920"/>
            <a:ext cx="635796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281"/>
                </a:solidFill>
                <a:latin typeface="Calibri"/>
              </a:rPr>
              <a:t>АБАКШИН АЛЕКСЕЙ НИКОЛАЕВИЧ</a:t>
            </a: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3281"/>
                </a:solidFill>
                <a:latin typeface="Calibri"/>
              </a:rPr>
              <a:t>Родился 25.05.1977г. в г. Вилюйске Якутской АССР, женат</a:t>
            </a:r>
            <a:r>
              <a:rPr b="1" lang="en-US" sz="1400" spc="-1" strike="noStrike">
                <a:solidFill>
                  <a:srgbClr val="193281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193281"/>
                </a:solidFill>
                <a:latin typeface="Calibri"/>
              </a:rPr>
              <a:t> воспитываю дочь</a:t>
            </a:r>
            <a:endParaRPr b="0" lang="en-US" sz="1400" spc="-1" strike="noStrike">
              <a:solidFill>
                <a:srgbClr val="193281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3281"/>
                </a:solidFill>
                <a:latin typeface="Calibri"/>
              </a:rPr>
              <a:t>Образование</a:t>
            </a:r>
            <a:r>
              <a:rPr b="1" lang="en-US" sz="1400" spc="-1" strike="noStrike">
                <a:solidFill>
                  <a:srgbClr val="193281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193281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1994 - 1999// Российский государственный университет нефти и газа им. И.М. Губкина</a:t>
            </a:r>
            <a:r>
              <a:rPr b="0" lang="en-US" sz="1400" spc="-1" strike="noStrike">
                <a:solidFill>
                  <a:srgbClr val="193281"/>
                </a:solidFill>
                <a:latin typeface="Calibri"/>
              </a:rPr>
              <a:t>,</a:t>
            </a: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 юридический факультет</a:t>
            </a:r>
            <a:r>
              <a:rPr b="0" lang="en-US" sz="1400" spc="-1" strike="noStrike">
                <a:solidFill>
                  <a:srgbClr val="193281"/>
                </a:solidFill>
                <a:latin typeface="Calibri"/>
              </a:rPr>
              <a:t>,</a:t>
            </a: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 диплом с отличием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1999 - 2001// Российская школа частного права при Президенте РФ, магистр частного права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В 2006г. в Санкт-Петербургском государственном университете получена квалификация медиатора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В 2007г. прошел полный курс программы тайм-менеджмента Глеба Архангельского</a:t>
            </a:r>
            <a:endParaRPr b="0" lang="en-US" sz="1400" spc="-1" strike="noStrike">
              <a:solidFill>
                <a:srgbClr val="193281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93281"/>
                </a:solidFill>
                <a:latin typeface="Calibri"/>
              </a:rPr>
              <a:t>Опыт работы</a:t>
            </a:r>
            <a:r>
              <a:rPr b="1" lang="en-US" sz="1400" spc="-1" strike="noStrike">
                <a:solidFill>
                  <a:srgbClr val="193281"/>
                </a:solidFill>
                <a:latin typeface="Calibri"/>
              </a:rPr>
              <a:t>:</a:t>
            </a:r>
            <a:r>
              <a:rPr b="1" lang="ru-RU" sz="1400" spc="-1" strike="noStrike">
                <a:solidFill>
                  <a:srgbClr val="193281"/>
                </a:solidFill>
                <a:latin typeface="Calibri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01.2009 – по н. вр.// </a:t>
            </a:r>
            <a:r>
              <a:rPr b="0" lang="en-US" sz="1400" spc="-1" strike="noStrike">
                <a:solidFill>
                  <a:srgbClr val="193281"/>
                </a:solidFill>
                <a:latin typeface="Calibri"/>
              </a:rPr>
              <a:t>RU-COM</a:t>
            </a: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, Заместитель Генерального директора по правовым и корпоративным вопросам</a:t>
            </a:r>
            <a:r>
              <a:rPr b="0" lang="en-US" sz="1400" spc="-1" strike="noStrike">
                <a:solidFill>
                  <a:srgbClr val="193281"/>
                </a:solidFill>
                <a:latin typeface="Calibri"/>
              </a:rPr>
              <a:t>,</a:t>
            </a: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 Член Правления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10.2008 – 12.2008// СУЭК, Заместитель директора по юридическим вопросам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03.2007 – 10.2008// Российские коммунальные системы, Начальник Департамента по правовому обеспечению – Заместитель Исполнительного директора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04.2004 – 03.2007// КЭС-Холдинг, Заместитель Руководителя Правового департамента (последняя должность)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12.2002 – 04.2004// Разгуляй, Главный юрисконсульт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09.2002 – 12.2002// БРиТ, Юрисконсульт</a:t>
            </a:r>
            <a:br>
              <a:rPr sz="1400"/>
            </a:b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04.2001 – 09.2002// МАИР, Юрисконсульт</a:t>
            </a:r>
            <a:endParaRPr b="0" lang="en-US" sz="1400" spc="-1" strike="noStrike">
              <a:solidFill>
                <a:srgbClr val="193281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193281"/>
                </a:solidFill>
                <a:latin typeface="Calibri"/>
              </a:rPr>
              <a:t>02.1999 – 05.1999// Якутгазпром, Юрисконсульт</a:t>
            </a:r>
            <a:endParaRPr b="0" lang="en-US" sz="1400" spc="-1" strike="noStrike">
              <a:solidFill>
                <a:srgbClr val="193281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349"/>
              </a:spcBef>
              <a:buClr>
                <a:srgbClr val="19328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281"/>
              </a:solidFill>
              <a:latin typeface="Calibri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6516720" y="5229360"/>
            <a:ext cx="244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ои сайты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blog.abakshin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jk-online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abakshin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6659640" y="1197000"/>
            <a:ext cx="2016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3"/>
          <p:cNvSpPr/>
          <p:nvPr/>
        </p:nvSpPr>
        <p:spPr>
          <a:xfrm>
            <a:off x="539640" y="2349360"/>
            <a:ext cx="651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3281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4143240" y="4248000"/>
            <a:ext cx="40957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969"/>
                </a:solidFill>
                <a:latin typeface="Arial"/>
              </a:rPr>
              <a:t>Абакшин Алексей Никола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Заместитель Генерального директора по правовым и корпоративным вопро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969"/>
                </a:solidFill>
                <a:latin typeface="Calibri"/>
              </a:rPr>
              <a:t>Контакты</a:t>
            </a:r>
            <a:br>
              <a:rPr sz="1600"/>
            </a:b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+79166402687</a:t>
            </a:r>
            <a:r>
              <a:rPr b="0" lang="en-US" sz="1600" spc="-1" strike="noStrike">
                <a:solidFill>
                  <a:srgbClr val="696969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96969"/>
                </a:solidFill>
                <a:latin typeface="Arial"/>
              </a:rPr>
              <a:t>aan@ru-com.ru,</a:t>
            </a: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96969"/>
                </a:solidFill>
                <a:latin typeface="Arial"/>
              </a:rPr>
              <a:t>abakshin@mail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42960" y="5214960"/>
            <a:ext cx="409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96969"/>
                </a:solidFill>
                <a:latin typeface="Arial"/>
              </a:rPr>
              <a:t>29.10.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468360" y="1557360"/>
            <a:ext cx="81756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93281"/>
                </a:solidFill>
                <a:latin typeface="Arial"/>
              </a:rPr>
              <a:t>КПЭ корпоративного юриста</a:t>
            </a:r>
            <a:r>
              <a:rPr b="1" lang="en-US" sz="3400" spc="-1" strike="noStrike">
                <a:solidFill>
                  <a:srgbClr val="193281"/>
                </a:solidFill>
                <a:latin typeface="Arial"/>
              </a:rPr>
              <a:t>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93281"/>
                </a:solidFill>
                <a:latin typeface="Arial"/>
              </a:rPr>
              <a:t>Без вопросов не бывает ответов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6913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говорят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C:\Users\Муж\Documents\2_Работа\Без ответов не бывает ответов!.bmp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040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прос №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28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3281"/>
                </a:solidFill>
                <a:latin typeface="Arial"/>
              </a:rPr>
              <a:t>За что корпоративный юрист получает ежемесячная заработную плату</a:t>
            </a:r>
            <a:r>
              <a:rPr b="0" lang="en-US" sz="3600" spc="-1" strike="noStrike">
                <a:solidFill>
                  <a:srgbClr val="193281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вет на Вопрос №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1412640"/>
            <a:ext cx="82072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3281"/>
                </a:solidFill>
                <a:latin typeface="Arial"/>
              </a:rPr>
              <a:t>Сохранение стоимости компании</a:t>
            </a:r>
            <a:r>
              <a:rPr b="0" lang="en-US" sz="4000" spc="-1" strike="noStrike">
                <a:solidFill>
                  <a:srgbClr val="193281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193281"/>
              </a:solidFill>
              <a:latin typeface="Calibri"/>
            </a:endParaRPr>
          </a:p>
          <a:p>
            <a:pPr lvl="2" marL="125748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экспертиза проектов догово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нутренних доку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проверках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ебное представи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доверен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прос №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5528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3281"/>
                </a:solidFill>
                <a:latin typeface="Arial"/>
              </a:rPr>
              <a:t>За что могут юристы компании получать годовые бонусы</a:t>
            </a:r>
            <a:r>
              <a:rPr b="0" lang="en-US" sz="3600" spc="-1" strike="noStrike">
                <a:solidFill>
                  <a:srgbClr val="193281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вет на Вопрос №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5280" y="119700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3281"/>
                </a:solidFill>
                <a:latin typeface="Arial"/>
              </a:rPr>
              <a:t>Увеличение </a:t>
            </a:r>
            <a:endParaRPr b="0" lang="en-US" sz="36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3281"/>
                </a:solidFill>
                <a:latin typeface="Arial"/>
              </a:rPr>
              <a:t>(создание дополнительной) </a:t>
            </a:r>
            <a:endParaRPr b="0" lang="en-US" sz="36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3281"/>
                </a:solidFill>
                <a:latin typeface="Arial"/>
              </a:rPr>
              <a:t>стоимости компании</a:t>
            </a:r>
            <a:endParaRPr b="0" lang="en-US" sz="36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6829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5528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932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281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3281"/>
                </a:solidFill>
                <a:latin typeface="Arial"/>
              </a:rPr>
              <a:t>Как могут корпоративные юристы увеличить стоимость компании</a:t>
            </a:r>
            <a:r>
              <a:rPr b="0" lang="en-US" sz="3600" spc="-1" strike="noStrike">
                <a:solidFill>
                  <a:srgbClr val="193281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193281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696969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8358120" y="64882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3281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9:06:15Z</dcterms:created>
  <dc:creator>Groznaya</dc:creator>
  <dc:description/>
  <dc:language>en-US</dc:language>
  <cp:lastModifiedBy>Муж</cp:lastModifiedBy>
  <dcterms:modified xsi:type="dcterms:W3CDTF">2010-10-28T18:45:00Z</dcterms:modified>
  <cp:revision>588</cp:revision>
  <dc:subject/>
  <dc:title>Слайд 1</dc:title>
</cp:coreProperties>
</file>