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5920" y="179280"/>
            <a:ext cx="6114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85920" y="179280"/>
            <a:ext cx="6114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85920" y="179280"/>
            <a:ext cx="6114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5920" y="179280"/>
            <a:ext cx="6114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428760" y="1071720"/>
            <a:ext cx="8286480" cy="51433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643040" y="2642760"/>
            <a:ext cx="5786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193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1" marL="311760" indent="-119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2" marL="479880" indent="-95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3" marL="671760" indent="-9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4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5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6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" name="Прямоугольник 13"/>
          <p:cNvSpPr/>
          <p:nvPr/>
        </p:nvSpPr>
        <p:spPr>
          <a:xfrm flipV="1">
            <a:off x="428760" y="856800"/>
            <a:ext cx="8715240" cy="214560"/>
          </a:xfrm>
          <a:prstGeom prst="rect">
            <a:avLst/>
          </a:prstGeom>
          <a:solidFill>
            <a:srgbClr val="0020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4"/>
          <p:cNvSpPr/>
          <p:nvPr/>
        </p:nvSpPr>
        <p:spPr>
          <a:xfrm flipV="1">
            <a:off x="0" y="641880"/>
            <a:ext cx="4572000" cy="214200"/>
          </a:xfrm>
          <a:prstGeom prst="rect">
            <a:avLst/>
          </a:prstGeom>
          <a:solidFill>
            <a:srgbClr val="7f7f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0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00240" cy="233280"/>
          </a:xfrm>
          <a:prstGeom prst="rect">
            <a:avLst/>
          </a:prstGeom>
          <a:ln w="0">
            <a:noFill/>
          </a:ln>
        </p:spPr>
      </p:pic>
      <p:sp>
        <p:nvSpPr>
          <p:cNvPr id="5" name="Прямоугольник 20"/>
          <p:cNvSpPr/>
          <p:nvPr/>
        </p:nvSpPr>
        <p:spPr>
          <a:xfrm>
            <a:off x="3500280" y="6286680"/>
            <a:ext cx="5643720" cy="214200"/>
          </a:xfrm>
          <a:prstGeom prst="rect">
            <a:avLst/>
          </a:prstGeom>
          <a:solidFill>
            <a:srgbClr val="0020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7299360" y="179280"/>
            <a:ext cx="14158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428760" y="785880"/>
            <a:ext cx="8286480" cy="5429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0" y="928800"/>
            <a:ext cx="8715240" cy="214200"/>
          </a:xfrm>
          <a:prstGeom prst="rect">
            <a:avLst/>
          </a:prstGeom>
          <a:solidFill>
            <a:srgbClr val="0020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00240" cy="23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7299360" y="179280"/>
            <a:ext cx="1415880" cy="500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9328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9696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328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8358120" y="64483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930C-63B7-4A32-B11D-292AD24DDD93}" type="slidenum">
              <a:rPr b="1" lang="ru-RU" sz="1600" spc="-1" strike="noStrike">
                <a:solidFill>
                  <a:srgbClr val="193281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0"/>
          <p:cNvSpPr/>
          <p:nvPr/>
        </p:nvSpPr>
        <p:spPr>
          <a:xfrm>
            <a:off x="3500280" y="6286680"/>
            <a:ext cx="5643720" cy="214200"/>
          </a:xfrm>
          <a:prstGeom prst="rect">
            <a:avLst/>
          </a:prstGeom>
          <a:solidFill>
            <a:srgbClr val="0020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428760" y="1071720"/>
            <a:ext cx="8286480" cy="51433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 flipV="1">
            <a:off x="428760" y="856800"/>
            <a:ext cx="8715240" cy="214560"/>
          </a:xfrm>
          <a:prstGeom prst="rect">
            <a:avLst/>
          </a:prstGeom>
          <a:solidFill>
            <a:srgbClr val="0020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 flipV="1">
            <a:off x="0" y="641880"/>
            <a:ext cx="4572000" cy="214200"/>
          </a:xfrm>
          <a:prstGeom prst="rect">
            <a:avLst/>
          </a:prstGeom>
          <a:solidFill>
            <a:srgbClr val="7f7f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0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00240" cy="23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7299360" y="179280"/>
            <a:ext cx="1415880" cy="5000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5"/>
          <p:cNvSpPr/>
          <p:nvPr/>
        </p:nvSpPr>
        <p:spPr>
          <a:xfrm>
            <a:off x="3500280" y="6286680"/>
            <a:ext cx="5643720" cy="214200"/>
          </a:xfrm>
          <a:prstGeom prst="rect">
            <a:avLst/>
          </a:prstGeom>
          <a:solidFill>
            <a:srgbClr val="0020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643040" y="2642760"/>
            <a:ext cx="5786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193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1" marL="311760" indent="-119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2" marL="479880" indent="-95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3" marL="671760" indent="-9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4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5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6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428760" y="1071720"/>
            <a:ext cx="8286480" cy="51433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 flipV="1">
            <a:off x="428760" y="856800"/>
            <a:ext cx="8715240" cy="214560"/>
          </a:xfrm>
          <a:prstGeom prst="rect">
            <a:avLst/>
          </a:prstGeom>
          <a:solidFill>
            <a:srgbClr val="0020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1"/>
          <p:cNvSpPr/>
          <p:nvPr/>
        </p:nvSpPr>
        <p:spPr>
          <a:xfrm flipV="1">
            <a:off x="0" y="641880"/>
            <a:ext cx="4572000" cy="214200"/>
          </a:xfrm>
          <a:prstGeom prst="rect">
            <a:avLst/>
          </a:prstGeom>
          <a:solidFill>
            <a:srgbClr val="7f7f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0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00240" cy="233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3"/>
          <a:stretch/>
        </p:blipFill>
        <p:spPr>
          <a:xfrm>
            <a:off x="7299360" y="179280"/>
            <a:ext cx="1415880" cy="5000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5"/>
          <p:cNvSpPr/>
          <p:nvPr/>
        </p:nvSpPr>
        <p:spPr>
          <a:xfrm>
            <a:off x="3500280" y="6286680"/>
            <a:ext cx="5643720" cy="214200"/>
          </a:xfrm>
          <a:prstGeom prst="rect">
            <a:avLst/>
          </a:prstGeom>
          <a:solidFill>
            <a:srgbClr val="0020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9328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9696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328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642960" y="207180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281"/>
                </a:solidFill>
                <a:latin typeface="Arial"/>
              </a:rPr>
              <a:t>Налоговые пожа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281"/>
                </a:solidFill>
                <a:latin typeface="Arial"/>
              </a:rPr>
              <a:t>и как с ними боро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281"/>
                </a:solidFill>
                <a:latin typeface="Arial"/>
              </a:rPr>
              <a:t>(</a:t>
            </a:r>
            <a:r>
              <a:rPr b="1" lang="ru-RU" sz="3600" spc="-1" strike="noStrike" u="sng">
                <a:solidFill>
                  <a:srgbClr val="193281"/>
                </a:solidFill>
                <a:uFillTx/>
                <a:latin typeface="Arial"/>
              </a:rPr>
              <a:t>без картинок</a:t>
            </a:r>
            <a:r>
              <a:rPr b="1" lang="ru-RU" sz="3600" spc="-1" strike="noStrike">
                <a:solidFill>
                  <a:srgbClr val="193281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Налоговый пожарный № 4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28400" y="114300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Проверка контрагентов Общества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32280" indent="-447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Проблемный контрагент Общества влечет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4" marL="2128320" indent="-447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проблемные затраты по налогу на прибы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28320" indent="-44784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696969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проблемное возмещение НД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44784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Через 3 года деятельности Общества получить документы о добросовестности контрагента на 90% нереально (</a:t>
            </a: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особенно когда он был ликвидирован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)!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2" marL="1232280" indent="-44784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Определенный комплект актуальных документов о контрагенте должен быть получен до заключения договора и храниться в Обществе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2" marL="1232280" indent="-447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В Обществе должен быть отдельный Приказ «О проверке контрагентов» для закрытия вопроса т.н. «должной осмотрительности» Общества при отборе контрагентов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2" marL="1232280" indent="-44784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Calibri"/>
              <a:buChar char="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Налоговый пожарный № 5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28400" y="114300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Регламент по налоговым проверкам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44880" indent="-45252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Очевидно</a:t>
            </a:r>
            <a:r>
              <a:rPr b="0" lang="en-US" sz="2000" spc="-1" strike="noStrike" u="sng">
                <a:solidFill>
                  <a:srgbClr val="696969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Обжалование решений налоговых органов в суде осуществляет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юридическая служба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а не бухгалтерия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2" marL="1244880" indent="-45252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Неочевидно</a:t>
            </a:r>
            <a:r>
              <a:rPr b="0" lang="en-US" sz="2000" spc="-1" strike="noStrike" u="sng">
                <a:solidFill>
                  <a:srgbClr val="696969"/>
                </a:solidFill>
                <a:uFillTx/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 но бесспорно</a:t>
            </a:r>
            <a:r>
              <a:rPr b="0" lang="en-US" sz="2000" spc="-1" strike="noStrike" u="sng">
                <a:solidFill>
                  <a:srgbClr val="696969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Планирование судебного процесса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 формирование судебной позиции Общества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сбор доказательств должны осуществляться юридической службой С САМОГО НАЧАЛА ПРОВЕРКИ (</a:t>
            </a: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а не после получения Обществом Акта проверки и </a:t>
            </a: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Решения налогового органа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2" marL="1244880" indent="-45252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Итого</a:t>
            </a:r>
            <a:r>
              <a:rPr b="0" lang="en-US" sz="2000" spc="-1" strike="noStrike" u="sng">
                <a:solidFill>
                  <a:srgbClr val="696969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 Юридическая службы – это АДМИНИСТРАТОР всего процесса от и до в Обществе при проведении проверки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2" marL="1244880" indent="-4525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9228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Концепция</a:t>
            </a: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Регламента по налоговым проверкам</a:t>
            </a: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: 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Готов сани летом</a:t>
            </a: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 а телегу зимой!</a:t>
            </a:r>
            <a:endParaRPr b="1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5000"/>
              </a:lnSpc>
              <a:spcBef>
                <a:spcPts val="2064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93281"/>
                </a:solidFill>
                <a:latin typeface="Calibri"/>
              </a:rPr>
              <a:t>Утверждение системного и постоянного Алгоритма работы в Обществе при проведении налоговых проверок</a:t>
            </a:r>
            <a:endParaRPr b="0" lang="en-US" sz="2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95000"/>
              </a:lnSpc>
              <a:spcBef>
                <a:spcPts val="2064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93281"/>
                </a:solidFill>
                <a:latin typeface="Calibri"/>
              </a:rPr>
              <a:t>Закрепление за подразделениями Общества, участвующими в налоговых проверках, четкой Зоны ответственности</a:t>
            </a:r>
            <a:endParaRPr b="0" lang="en-US" sz="2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95000"/>
              </a:lnSpc>
              <a:spcBef>
                <a:spcPts val="2064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93281"/>
                </a:solidFill>
                <a:latin typeface="Calibri"/>
              </a:rPr>
              <a:t>Установление Правил поведения работников Общества в ходе проведения налоговых проверок</a:t>
            </a:r>
            <a:endParaRPr b="0" lang="en-US" sz="2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95000"/>
              </a:lnSpc>
              <a:spcBef>
                <a:spcPts val="2064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3281"/>
                </a:solidFill>
                <a:latin typeface="Calibri"/>
              </a:rPr>
              <a:t>С момента начала налоговой проверки юридическая служба должна осуществлять Подготовку к потенциальному обжалованию ее результатов в суде</a:t>
            </a:r>
            <a:endParaRPr b="0" lang="en-US" sz="2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95000"/>
              </a:lnSpc>
              <a:spcBef>
                <a:spcPts val="2064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3281"/>
                </a:solidFill>
                <a:latin typeface="Calibri"/>
              </a:rPr>
              <a:t>С учетом пункта 4 устанавливается Правило «одного окна» =  любое взаимодействие с проверяющими через юридическую службу </a:t>
            </a:r>
            <a:endParaRPr b="0" lang="en-US" sz="2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3281"/>
              </a:solidFill>
              <a:latin typeface="Calibri"/>
            </a:endParaRPr>
          </a:p>
          <a:p>
            <a:pPr lvl="1"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969"/>
              </a:solidFill>
              <a:latin typeface="Calibri"/>
            </a:endParaRPr>
          </a:p>
          <a:p>
            <a:pPr lvl="1" marL="450720" indent="-450720">
              <a:spcBef>
                <a:spcPts val="499"/>
              </a:spcBef>
              <a:buClr>
                <a:srgbClr val="69696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96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05636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f7f7f"/>
                </a:solidFill>
                <a:latin typeface="Calibri"/>
              </a:rPr>
              <a:t>Основные тезисы Регламента по налоговым проверкам</a:t>
            </a:r>
            <a:r>
              <a:rPr b="1" lang="en-US" sz="2100" spc="-1" strike="noStrike">
                <a:solidFill>
                  <a:srgbClr val="7f7f7f"/>
                </a:solidFill>
                <a:latin typeface="Calibri"/>
              </a:rPr>
              <a:t>:</a:t>
            </a:r>
            <a:r>
              <a:rPr b="1" lang="ru-RU" sz="21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2100"/>
            </a:br>
            <a:r>
              <a:rPr b="1" lang="ru-RU" sz="2100" spc="-1" strike="noStrike">
                <a:solidFill>
                  <a:srgbClr val="7f7f7f"/>
                </a:solidFill>
                <a:latin typeface="Calibri"/>
              </a:rPr>
              <a:t>Гром не грянет</a:t>
            </a:r>
            <a:r>
              <a:rPr b="1" lang="en-US" sz="2100" spc="-1" strike="noStrike">
                <a:solidFill>
                  <a:srgbClr val="7f7f7f"/>
                </a:solidFill>
                <a:latin typeface="Calibri"/>
              </a:rPr>
              <a:t>,</a:t>
            </a:r>
            <a:r>
              <a:rPr b="1" lang="ru-RU" sz="2100" spc="-1" strike="noStrike">
                <a:solidFill>
                  <a:srgbClr val="7f7f7f"/>
                </a:solidFill>
                <a:latin typeface="Calibri"/>
              </a:rPr>
              <a:t> мужик не перекреститься!</a:t>
            </a:r>
            <a:br>
              <a:rPr sz="2100"/>
            </a:br>
            <a:endParaRPr b="1" lang="en-US" sz="2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1196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 algn="just">
              <a:lnSpc>
                <a:spcPct val="85000"/>
              </a:lnSpc>
              <a:spcBef>
                <a:spcPts val="2100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Calibri"/>
              </a:rPr>
              <a:t>Опрос работников Общества проверяющими должен проходить в присутствии юридической службы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20480" indent="-420480" algn="just">
              <a:lnSpc>
                <a:spcPct val="85000"/>
              </a:lnSpc>
              <a:spcBef>
                <a:spcPts val="2100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Calibri"/>
              </a:rPr>
              <a:t>На территории Общества для проверяющих должно быть отведено специальное помещение (рядом не должно быть бухгалтерии</a:t>
            </a:r>
            <a:r>
              <a:rPr b="1" lang="en-US" sz="2400" spc="-1" strike="noStrike">
                <a:solidFill>
                  <a:srgbClr val="193281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193281"/>
                </a:solidFill>
                <a:latin typeface="Calibri"/>
              </a:rPr>
              <a:t> принтеров и ксероксов)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20480" indent="-420480" algn="just">
              <a:lnSpc>
                <a:spcPct val="85000"/>
              </a:lnSpc>
              <a:spcBef>
                <a:spcPts val="2100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Calibri"/>
              </a:rPr>
              <a:t>Дело по каждой налоговой проверке должно с самого начала проверки вестись и храниться в юридической службе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20480" indent="-420480" algn="just">
              <a:lnSpc>
                <a:spcPct val="85000"/>
              </a:lnSpc>
              <a:spcBef>
                <a:spcPts val="2100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Calibri"/>
              </a:rPr>
              <a:t>Документы от проверяющих получает юридическая служба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20480" indent="-420480" algn="just">
              <a:lnSpc>
                <a:spcPct val="85000"/>
              </a:lnSpc>
              <a:spcBef>
                <a:spcPts val="2100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Calibri"/>
              </a:rPr>
              <a:t>Документы и пояснения, представляются проверяющим через юридическую службу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buClr>
                <a:srgbClr val="193281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20480" indent="-420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28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marL="420480" indent="-420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281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1" marL="414360" indent="-41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969"/>
              </a:solidFill>
              <a:latin typeface="Calibri"/>
            </a:endParaRPr>
          </a:p>
          <a:p>
            <a:pPr lvl="1" marL="414360" indent="-41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96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5560" y="179280"/>
            <a:ext cx="6972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Налоговый пожарный № 6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7, 8…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8400" y="114300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17 показателей качества налоговой правовой экспертизы проектов договоров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Подготовка форм договоров</a:t>
            </a:r>
            <a:r>
              <a:rPr b="1" lang="en-US" sz="2400" spc="-1" strike="noStrike">
                <a:solidFill>
                  <a:srgbClr val="193281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 предупреждающих типовые и актуальные налоговые риски Общества 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Делегирование полномочий Генерального директора по налоговым вопросам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Мониторинг налоговой правовой функции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Разграничение компетенции по налоговой правовой функции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Корпоративное обучение «Налоговый юрист»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57480" indent="-45720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Calibri"/>
              <a:buChar char="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5560" y="179280"/>
            <a:ext cx="6972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Концепция налоговой безопасности</a:t>
            </a: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400" y="142884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281"/>
                </a:solidFill>
                <a:latin typeface="Arial"/>
              </a:rPr>
              <a:t>Выберите свой вариант</a:t>
            </a:r>
            <a:r>
              <a:rPr b="1" lang="en-US" sz="3200" spc="-1" strike="noStrike">
                <a:solidFill>
                  <a:srgbClr val="19328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93281"/>
                </a:solidFill>
                <a:latin typeface="Arial"/>
              </a:rPr>
              <a:t>Концепции</a:t>
            </a:r>
            <a:r>
              <a:rPr b="1" lang="en-US" sz="3200" spc="-1" strike="noStrike">
                <a:solidFill>
                  <a:srgbClr val="19328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2" marL="1542960" indent="-742680"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969"/>
                </a:solidFill>
                <a:latin typeface="Arial"/>
              </a:rPr>
              <a:t>Авось пронесет…</a:t>
            </a:r>
            <a:endParaRPr b="0" lang="en-US" sz="3000" spc="-1" strike="noStrike">
              <a:solidFill>
                <a:srgbClr val="193281"/>
              </a:solidFill>
              <a:latin typeface="Calibri"/>
            </a:endParaRPr>
          </a:p>
          <a:p>
            <a:pPr lvl="2" marL="1542960" indent="-742680"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969"/>
                </a:solidFill>
                <a:latin typeface="Arial"/>
              </a:rPr>
              <a:t>Как карты лягут…</a:t>
            </a:r>
            <a:endParaRPr b="0" lang="en-US" sz="3000" spc="-1" strike="noStrike">
              <a:solidFill>
                <a:srgbClr val="193281"/>
              </a:solidFill>
              <a:latin typeface="Calibri"/>
            </a:endParaRPr>
          </a:p>
          <a:p>
            <a:pPr lvl="2" marL="1542960" indent="-742680"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969"/>
                </a:solidFill>
                <a:latin typeface="Arial"/>
              </a:rPr>
              <a:t>БЕРЕЖЕННОГО БОГ БЕРЕЖЕТ!!!</a:t>
            </a:r>
            <a:endParaRPr b="0" lang="en-US" sz="3000" spc="-1" strike="noStrike">
              <a:solidFill>
                <a:srgbClr val="193281"/>
              </a:solidFill>
              <a:latin typeface="Calibri"/>
            </a:endParaRPr>
          </a:p>
          <a:p>
            <a:pPr lvl="2" marL="1542960" indent="-742680"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3"/>
          <p:cNvSpPr/>
          <p:nvPr/>
        </p:nvSpPr>
        <p:spPr>
          <a:xfrm>
            <a:off x="571680" y="2728800"/>
            <a:ext cx="43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281"/>
                </a:solidFill>
                <a:latin typeface="Calibri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143240" y="4248000"/>
            <a:ext cx="40957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969"/>
                </a:solidFill>
                <a:latin typeface="Arial"/>
              </a:rPr>
              <a:t>Абакшин Алексей Никола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Заместитель Генерального директора по правовым и корпоративным вопро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969"/>
                </a:solidFill>
                <a:latin typeface="Calibri"/>
              </a:rPr>
              <a:t>Контакты</a:t>
            </a:r>
            <a:br>
              <a:rPr sz="1600"/>
            </a:b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+79166402687</a:t>
            </a:r>
            <a:r>
              <a:rPr b="0" lang="en-US" sz="16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96969"/>
                </a:solidFill>
                <a:latin typeface="Arial"/>
              </a:rPr>
              <a:t>aan@ru-com.ru</a:t>
            </a: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00000" y="5214960"/>
            <a:ext cx="38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Врага надо знать в лицо!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1143000"/>
            <a:ext cx="8286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00000"/>
              </a:lnSpc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Налоговые пожары –</a:t>
            </a:r>
            <a:r>
              <a:rPr b="1" lang="en-US" sz="2400" spc="-1" strike="noStrike">
                <a:solidFill>
                  <a:srgbClr val="1932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это</a:t>
            </a:r>
            <a:r>
              <a:rPr b="1" lang="en-US" sz="2400" spc="-1" strike="noStrike">
                <a:solidFill>
                  <a:srgbClr val="19328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0708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96969"/>
                </a:solidFill>
                <a:uFillTx/>
                <a:latin typeface="Arial"/>
              </a:rPr>
              <a:t>ЕДИНОЛИЧНАЯ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уголовная и административная ответственность Генерального директора по налоговым правонарушениям 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1199"/>
              </a:spcBef>
              <a:spcAft>
                <a:spcPts val="799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969"/>
                </a:solidFill>
                <a:latin typeface="Arial"/>
              </a:rPr>
              <a:t>Максимальное наказание - Лишение свободы </a:t>
            </a:r>
            <a:r>
              <a:rPr b="1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до 6 лет</a:t>
            </a:r>
            <a:r>
              <a:rPr b="1" lang="ru-RU" sz="2000" spc="-1" strike="noStrike">
                <a:solidFill>
                  <a:srgbClr val="696969"/>
                </a:solidFill>
                <a:latin typeface="Arial"/>
              </a:rPr>
              <a:t> с лишением права занимать определенную должность за налоговое преступление в размере </a:t>
            </a:r>
            <a:r>
              <a:rPr b="1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более 10 млн. рублей </a:t>
            </a:r>
            <a:r>
              <a:rPr b="1" lang="ru-RU" sz="2000" spc="-1" strike="noStrike">
                <a:solidFill>
                  <a:srgbClr val="696969"/>
                </a:solidFill>
                <a:latin typeface="Arial"/>
              </a:rPr>
              <a:t>(ст. 199 УК РФ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969"/>
                </a:solidFill>
                <a:latin typeface="Arial"/>
              </a:rPr>
              <a:t>Главный бухгалтер по общему правилу </a:t>
            </a:r>
            <a:r>
              <a:rPr b="1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не несет</a:t>
            </a:r>
            <a:r>
              <a:rPr b="1" lang="ru-RU" sz="2000" spc="-1" strike="noStrike">
                <a:solidFill>
                  <a:srgbClr val="696969"/>
                </a:solidFill>
                <a:latin typeface="Arial"/>
              </a:rPr>
              <a:t> ответственность за налоговые правонарушения и преступ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Врага надо знать в лицо!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760" y="1143000"/>
            <a:ext cx="8286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Налоговые пожары –</a:t>
            </a:r>
            <a:r>
              <a:rPr b="1" lang="en-US" sz="2400" spc="-1" strike="noStrike">
                <a:solidFill>
                  <a:srgbClr val="1932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это</a:t>
            </a:r>
            <a:r>
              <a:rPr b="1" lang="en-US" sz="2400" spc="-1" strike="noStrike">
                <a:solidFill>
                  <a:srgbClr val="19328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0708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SzPct val="80000"/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Недоимки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штрафы и пени – десятки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сотни млн. рублей ВНЕ Бизнес-планов Обществ = </a:t>
            </a:r>
            <a:r>
              <a:rPr b="1" lang="ru-RU" sz="2400" spc="-1" strike="noStrike" u="sng">
                <a:solidFill>
                  <a:srgbClr val="696969"/>
                </a:solidFill>
                <a:uFillTx/>
                <a:latin typeface="Arial"/>
              </a:rPr>
              <a:t>БОЛЬШАЯ финансовая НЕОЖИДАННОСТЬ 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для Общества!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0708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SzPct val="80000"/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Причинение вреда деловой репутации Акционера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Общества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Генерального директора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в т.ч.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Формирование негативной налоговой </a:t>
            </a:r>
            <a:r>
              <a:rPr b="1" lang="ru-RU" sz="2400" spc="-1" strike="noStrike" u="sng">
                <a:solidFill>
                  <a:srgbClr val="696969"/>
                </a:solidFill>
                <a:uFillTx/>
                <a:latin typeface="Arial"/>
              </a:rPr>
              <a:t>ИСТОРИИ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указанных лиц в целом и в час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Врага надо знать в лицо!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8760" y="1143000"/>
            <a:ext cx="8286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Налоговые пожары –</a:t>
            </a:r>
            <a:r>
              <a:rPr b="1" lang="en-US" sz="2400" spc="-1" strike="noStrike">
                <a:solidFill>
                  <a:srgbClr val="1932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это</a:t>
            </a:r>
            <a:r>
              <a:rPr b="1" lang="en-US" sz="2400" spc="-1" strike="noStrike">
                <a:solidFill>
                  <a:srgbClr val="19328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19680" indent="-4431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SzPct val="80000"/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96969"/>
                </a:solidFill>
                <a:uFillTx/>
                <a:latin typeface="Arial"/>
              </a:rPr>
              <a:t>Наложение ограничений 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по распоряжению имуществом Обществом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в т.ч. на совершение расходных операций на р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с в банках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19680" indent="-4431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SzPct val="80000"/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Неполучение </a:t>
            </a:r>
            <a:r>
              <a:rPr b="1" lang="ru-RU" sz="2400" spc="-1" strike="noStrike" u="sng">
                <a:solidFill>
                  <a:srgbClr val="696969"/>
                </a:solidFill>
                <a:uFillTx/>
                <a:latin typeface="Arial"/>
              </a:rPr>
              <a:t>Справки об отсутствии задолженности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перед бюджетом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необходимой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например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 для</a:t>
            </a:r>
            <a:r>
              <a:rPr b="1" lang="en-US" sz="2400" spc="-1" strike="noStrike">
                <a:solidFill>
                  <a:srgbClr val="69696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4" marL="2106720" indent="-4431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Получения креди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106720" indent="-4431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Участия в государственных закуп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106720" indent="-4431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969"/>
                </a:solidFill>
                <a:latin typeface="Arial"/>
              </a:rPr>
              <a:t>Заключения концессионных согла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Arial"/>
              </a:rPr>
              <a:t>Без вопросов не бывает ответов!</a:t>
            </a:r>
            <a:endParaRPr b="1" lang="en-US" sz="3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8760" y="1143000"/>
            <a:ext cx="8286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3281"/>
                </a:solidFill>
                <a:latin typeface="Arial"/>
              </a:rPr>
              <a:t>Какими дополнительными средствами предлагается бороться с налоговыми пожарами</a:t>
            </a:r>
            <a:r>
              <a:rPr b="0" lang="en-US" sz="2800" spc="-1" strike="noStrike">
                <a:solidFill>
                  <a:srgbClr val="193281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3281"/>
                </a:solidFill>
                <a:latin typeface="Arial"/>
              </a:rPr>
              <a:t>Как еще можно повысить налоговую безопасность Компании и его Топ-менеджеров</a:t>
            </a:r>
            <a:r>
              <a:rPr b="0" lang="en-US" sz="2800" spc="-1" strike="noStrike">
                <a:solidFill>
                  <a:srgbClr val="193281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70437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Юридический налоговый драйвер</a:t>
            </a: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99680" y="128592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3281"/>
                </a:solidFill>
                <a:latin typeface="Arial"/>
              </a:rPr>
              <a:t>Повышение налоговой безопасности посредством усиления роли юристов в процессе управления налоговыми рисками (</a:t>
            </a:r>
            <a:r>
              <a:rPr b="0" lang="ru-RU" sz="2400" spc="-1" strike="noStrike" u="sng">
                <a:solidFill>
                  <a:srgbClr val="193281"/>
                </a:solidFill>
                <a:uFillTx/>
                <a:latin typeface="Arial"/>
              </a:rPr>
              <a:t>а не только в процессе тушения налоговых пожаров в судах</a:t>
            </a:r>
            <a:r>
              <a:rPr b="0" lang="ru-RU" sz="2400" spc="-1" strike="noStrike">
                <a:solidFill>
                  <a:srgbClr val="19328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5748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969"/>
                </a:solidFill>
                <a:latin typeface="Arial"/>
              </a:rPr>
              <a:t>ПРАВОВАЯ РАБОТА 2.0.</a:t>
            </a:r>
            <a:endParaRPr b="0" lang="en-US" sz="22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Стандарты эффективной правов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Стандарт эффективной налоговой правовой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План приоритетных задач по совершенствованию правовой работы и внедрения Стандартов ЭПР в Обществе на 2010 г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Налоговый пожарный № 1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28400" y="1071360"/>
            <a:ext cx="82184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751"/>
              </a:spcBef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Сверка расчетов по налогам</a:t>
            </a:r>
            <a:r>
              <a:rPr b="1" lang="en-US" sz="2400" spc="-1" strike="noStrike">
                <a:solidFill>
                  <a:srgbClr val="193281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 сборам и страховых взносам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181880" indent="-429480" algn="just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Акт сверки – это ОФИЦИАЛЬНЫЕ письменные договоренности между Обществом и Фискальным органом по налоговым расчетам</a:t>
            </a:r>
            <a:endParaRPr b="0" lang="en-US" sz="1700" spc="-1" strike="noStrike">
              <a:solidFill>
                <a:srgbClr val="193281"/>
              </a:solidFill>
              <a:latin typeface="Calibri"/>
            </a:endParaRPr>
          </a:p>
          <a:p>
            <a:pPr lvl="2" marL="1181880" indent="-429480" algn="just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Один Акт сверки в полугодие!</a:t>
            </a:r>
            <a:endParaRPr b="0" lang="en-US" sz="1700" spc="-1" strike="noStrike">
              <a:solidFill>
                <a:srgbClr val="193281"/>
              </a:solidFill>
              <a:latin typeface="Calibri"/>
            </a:endParaRPr>
          </a:p>
          <a:p>
            <a:pPr lvl="2" marL="1181880" indent="-429480" algn="just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Шесть Актов сверки за 3 года деятельности Общества = НАШ НУЛЕВОЙ АКТ ПО ИТОГАМ ПРОВЕРКИ ЗА 3 ГОДА!!!</a:t>
            </a:r>
            <a:endParaRPr b="0" lang="en-US" sz="1700" spc="-1" strike="noStrike">
              <a:solidFill>
                <a:srgbClr val="193281"/>
              </a:solidFill>
              <a:latin typeface="Calibri"/>
            </a:endParaRPr>
          </a:p>
          <a:p>
            <a:pPr lvl="2" marL="1181880" indent="-429480" algn="just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Обязанность Главного бухгалтера Общества по проведению указанных сверок надо установить Приказом Генерального директора Общества</a:t>
            </a:r>
            <a:endParaRPr b="0" lang="en-US" sz="1700" spc="-1" strike="noStrike">
              <a:solidFill>
                <a:srgbClr val="193281"/>
              </a:solidFill>
              <a:latin typeface="Calibri"/>
            </a:endParaRPr>
          </a:p>
          <a:p>
            <a:pPr lvl="2" marL="1181880" indent="-429480" algn="just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Перед подписанием Акта сверки надо получить визу юридической службы. Копия Актов сверки должны храниться также в юридической службе</a:t>
            </a:r>
            <a:endParaRPr b="0" lang="en-US" sz="1700" spc="-1" strike="noStrike">
              <a:solidFill>
                <a:srgbClr val="193281"/>
              </a:solidFill>
              <a:latin typeface="Calibri"/>
            </a:endParaRPr>
          </a:p>
          <a:p>
            <a:pPr lvl="2" marL="1181880" indent="-42948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696969"/>
                </a:solidFill>
                <a:uFillTx/>
                <a:latin typeface="Arial"/>
              </a:rPr>
              <a:t>Нормативная база</a:t>
            </a:r>
            <a:r>
              <a:rPr b="0" lang="en-US" sz="1700" spc="-1" strike="noStrike" u="sng">
                <a:solidFill>
                  <a:srgbClr val="696969"/>
                </a:solidFill>
                <a:uFillTx/>
                <a:latin typeface="Arial"/>
              </a:rPr>
              <a:t>:</a:t>
            </a:r>
            <a:r>
              <a:rPr b="0" lang="en-US" sz="1700" spc="-1" strike="noStrike">
                <a:solidFill>
                  <a:srgbClr val="69696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Подп. 11 п. 1 ст. 32 НК РФ</a:t>
            </a:r>
            <a:r>
              <a:rPr b="0" lang="en-US" sz="17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 Приказ ФНС от 09.09.2005</a:t>
            </a:r>
            <a:r>
              <a:rPr b="0" lang="en-US" sz="1700" spc="-1" strike="noStrike">
                <a:solidFill>
                  <a:srgbClr val="69696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№ САЭ-3-01</a:t>
            </a:r>
            <a:r>
              <a:rPr b="0" lang="en-US" sz="1700" spc="-1" strike="noStrike">
                <a:solidFill>
                  <a:srgbClr val="696969"/>
                </a:solidFill>
                <a:latin typeface="Arial"/>
              </a:rPr>
              <a:t>/444@,</a:t>
            </a: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 Приказ ФНС  от 20.08.2007 № МММ-3-25</a:t>
            </a:r>
            <a:r>
              <a:rPr b="0" lang="en-US" sz="1700" spc="-1" strike="noStrike">
                <a:solidFill>
                  <a:srgbClr val="696969"/>
                </a:solidFill>
                <a:latin typeface="Arial"/>
              </a:rPr>
              <a:t>/</a:t>
            </a: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494</a:t>
            </a:r>
            <a:r>
              <a:rPr b="0" lang="en-US" sz="1700" spc="-1" strike="noStrike">
                <a:solidFill>
                  <a:srgbClr val="696969"/>
                </a:solidFill>
                <a:latin typeface="Arial"/>
              </a:rPr>
              <a:t>@,</a:t>
            </a:r>
            <a:r>
              <a:rPr b="0" lang="ru-RU" sz="1700" spc="-1" strike="noStrike">
                <a:solidFill>
                  <a:srgbClr val="696969"/>
                </a:solidFill>
                <a:latin typeface="Arial"/>
              </a:rPr>
              <a:t> подп. 8 п. 3 ст. 29 Федерального закона от 24.07.209 № 212-ФЗ</a:t>
            </a:r>
            <a:endParaRPr b="0" lang="en-US" sz="1700" spc="-1" strike="noStrike">
              <a:solidFill>
                <a:srgbClr val="193281"/>
              </a:solidFill>
              <a:latin typeface="Calibri"/>
            </a:endParaRPr>
          </a:p>
          <a:p>
            <a:pPr lvl="2" marL="1181880" indent="-429480">
              <a:lnSpc>
                <a:spcPct val="100000"/>
              </a:lnSpc>
              <a:spcBef>
                <a:spcPts val="524"/>
              </a:spcBef>
              <a:buClr>
                <a:srgbClr val="696969"/>
              </a:buClr>
              <a:buSzPct val="80000"/>
              <a:buFont typeface="Calibri"/>
              <a:buChar char="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Налоговый пожарный № 2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28400" y="114300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Письменные разъяснения «Минфина» по вопросам применения фискального законодательства РФ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07080" indent="-4388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969"/>
                </a:solidFill>
                <a:latin typeface="Arial"/>
              </a:rPr>
              <a:t>Общество имеет право получать данные письменные разъяснения по его индивидуальным запросам (пп. 2 п. 1 ст. 21 НК РФ)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lvl="2" marL="1207080" indent="-4388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969"/>
                </a:solidFill>
                <a:latin typeface="Arial"/>
              </a:rPr>
              <a:t>Фискальные органы обязаны руководствоваться этими письменными разъяснениями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lvl="2" marL="1207080" indent="-4388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969"/>
                </a:solidFill>
                <a:latin typeface="Arial"/>
              </a:rPr>
              <a:t>Общество</a:t>
            </a:r>
            <a:r>
              <a:rPr b="0" lang="en-US" sz="18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696969"/>
                </a:solidFill>
                <a:latin typeface="Arial"/>
              </a:rPr>
              <a:t> применяя указанные письменные разъяснения</a:t>
            </a:r>
            <a:r>
              <a:rPr b="0" lang="en-US" sz="1800" spc="-1" strike="noStrike">
                <a:solidFill>
                  <a:srgbClr val="69696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96969"/>
                </a:solidFill>
                <a:uFillTx/>
                <a:latin typeface="Arial"/>
              </a:rPr>
              <a:t>Не подлежит</a:t>
            </a:r>
            <a:r>
              <a:rPr b="0" lang="ru-RU" sz="1800" spc="-1" strike="noStrike">
                <a:solidFill>
                  <a:srgbClr val="696969"/>
                </a:solidFill>
                <a:latin typeface="Arial"/>
              </a:rPr>
              <a:t> ответственности за совершение налоговых правонарушений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969"/>
                </a:solidFill>
                <a:latin typeface="Arial"/>
              </a:rPr>
              <a:t>На сумму недоимки не начисляются ПЕ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969"/>
                </a:solidFill>
                <a:latin typeface="Arial"/>
              </a:rPr>
              <a:t>Исключается УМЫСЕЛ Генерального директора при предъявлении обвинения в совершении налогового преступления = НЕТ СОСТАВА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Налоговый пожарный № 3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8400" y="114300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9328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281"/>
                </a:solidFill>
                <a:latin typeface="Arial"/>
              </a:rPr>
              <a:t>12 Общедоступных критериев ФНС отбора организаций для проведения налоговых проверок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219680" indent="-44316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Нормативная база</a:t>
            </a:r>
            <a:r>
              <a:rPr b="0" lang="en-US" sz="2000" spc="-1" strike="noStrike" u="sng">
                <a:solidFill>
                  <a:srgbClr val="696969"/>
                </a:solidFill>
                <a:uFillTx/>
                <a:latin typeface="Arial"/>
              </a:rPr>
              <a:t>:</a:t>
            </a:r>
            <a:r>
              <a:rPr b="0" lang="ru-RU" sz="2000" spc="-1" strike="noStrike" u="sng">
                <a:solidFill>
                  <a:srgbClr val="696969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Приказ ФНС от 14.10.2008 № ММ-3-2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467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@ (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в т.ч. Приложение № 2)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2" marL="1219680" indent="-44316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12 критериев для ФНС = ПРИБОРНАЯ ДОСКА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РАДАР) ФНС! 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2" marL="1219680" indent="-44316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12 критериев для Общества = БЕСПЛАТНЫЙ АНТИРАДАР Общества !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2" marL="1219680" indent="-44316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Использование Обществом АНТИРАДАРА</a:t>
            </a:r>
            <a:r>
              <a:rPr b="0" lang="en-US" sz="2000" spc="-1" strike="noStrike">
                <a:solidFill>
                  <a:srgbClr val="69696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69696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4" marL="2106720" indent="-44316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969"/>
                </a:solidFill>
                <a:latin typeface="Arial"/>
              </a:rPr>
              <a:t>Издания Генеральным директором Приказа о контроле за соблюдением указанных 12 критери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06720" indent="-44316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696969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969"/>
                </a:solidFill>
                <a:latin typeface="Arial"/>
              </a:rPr>
              <a:t>Проведение ежеквартальных совещаний под руководством Генерального директора на предмет соблюдения данных 12 критери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19680" indent="-44316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696969"/>
              </a:buClr>
              <a:buSzPct val="80000"/>
              <a:buFont typeface="Calibri"/>
              <a:buChar char="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9:06:15Z</dcterms:created>
  <dc:creator>Groznaya</dc:creator>
  <dc:description/>
  <dc:language>en-US</dc:language>
  <cp:lastModifiedBy>Муж</cp:lastModifiedBy>
  <dcterms:modified xsi:type="dcterms:W3CDTF">2010-11-17T21:11:20Z</dcterms:modified>
  <cp:revision>270</cp:revision>
  <dc:subject/>
  <dc:title>Слайд 1</dc:title>
</cp:coreProperties>
</file>